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402-ABC1-43AE-8C63-62C666C5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FA6-917C-4E30-9A33-DAC01B59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12F-207C-4110-97B1-0213FD3B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C7E-79C0-4465-A3A4-936D7599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7F96-A57A-4640-B192-4FD33826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5B29-1926-408F-B33A-32F69D93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1CCE-DD67-4E87-AE21-B54F55D6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99DC-8B73-47E9-ABAC-E112CEB3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B1A7-743B-48F9-A66B-14631249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72B3-BF08-44FB-99C3-BC9519C7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E768-5E10-4CBC-84F3-E03960EC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DF07-E621-49C8-87F5-B9CBC72D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CECE-81A7-4945-BD6C-334567A9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35D1-043F-4107-8BBD-3DD26EBE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5B2C-C85A-47AD-856F-EB395415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6591-4D67-41AD-8B22-BB25D656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B943-443D-440A-AA4F-B3A36858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D58-F7E7-4A64-89F1-AA402BFF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ACA-75DA-459F-A003-D523324E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241-9673-455C-8D9A-3B15C192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47D-35B2-4FEA-8C92-FC2B97E9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0AD-CF21-4609-9373-D6E2EAFE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C4C-2A8B-405D-B1D0-45D60495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BC0-C153-470B-9456-C863B615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ECCF-CC3F-4F45-8B82-3E652D77F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22EE-C11D-48D7-B0A0-68BF200F7A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02612"/>
                </a:solidFill>
                <a:latin typeface="Times New Roman"/>
              </a:rPr>
              <a:t>Earthquak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By Josh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C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How they happ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. They form when plates move apa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2. It depends how far the plates move apart to how powerful the earthquake will b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40384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Faul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rmal faults cause tension in the earth’s crust pulls rock apa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Reverse faults are places in the rocks crust that are pushed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trike slip fault is a fault that when plates move past each other and start sh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rry I cant fit a picture =[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Stres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ension stress is a stress that pulls on the cr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mpression stress is stress that squeezes rock until it folds or brea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hearing is stress that pushes a mass of rock in two opposite dir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orry that again I cant fit a picture =[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Folding Earths Crus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Sometimes plate movement causes the crust to fo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or example have you ever skidded on a rug that wrinkled as your feet pushed it across the floor? If so that’s what folding the crust is lik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029200" y="4267080"/>
            <a:ext cx="3352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00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nsion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s a type of stress that constantly is pulling on the earth’s cru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5486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9:05:38Z</dcterms:created>
  <dc:creator>joshuaanderson</dc:creator>
  <dc:description/>
  <dc:language>en-US</dc:language>
  <cp:lastModifiedBy>codybaker</cp:lastModifiedBy>
  <dcterms:modified xsi:type="dcterms:W3CDTF">2008-02-11T19:32:13Z</dcterms:modified>
  <cp:revision>6</cp:revision>
  <dc:subject/>
  <dc:title>Earthquakes</dc:title>
</cp:coreProperties>
</file>